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E3A-4277-4D8B-9607-93C9971F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2A80-1A52-4740-8638-7D3E5E42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24F-FB1D-4594-A2EE-91713CB3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B06-80FE-47CA-85F4-567D1997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7E0-8BC6-4F43-940D-A47B9B18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A3B6-1F57-44B3-8414-2CE8BA41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F2F4-0F25-45AB-A17B-268D427C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13E3-B9A8-4E1A-9889-7538EA0B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5B0E-2A86-4C74-A581-8F24CE1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D5A5-5D0B-4F96-9FDA-06BB0FA8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1445-59F8-44BD-9D48-75A6CA7A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544-FEFD-444F-B40D-B51FD86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540D-426C-40E2-B8AA-BF4E7932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E211-C832-4E90-A6D8-500941C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735B-2A9D-4DD9-8111-3A37EB76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EE69-EC38-485E-9000-600657E5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3DD5-56F3-46EB-8513-A8A7CD09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04C1-07F8-4235-B3E4-47A3A549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2EB-BE32-4087-AD26-6B27EF39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912-830D-4181-A514-341FE6B5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EE4-2917-4D44-8B3D-6AD33128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03D-7617-41A0-891F-340F30B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8A1-76A3-41EB-8227-E9FEA783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D22-FEE5-47B2-B503-1CCDFEF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EEF-823C-45F2-AA26-8D83A96C45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CA7-ECFA-4DF1-AE82-C64BC40A00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Total Instructional 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Alignment</a:t>
            </a:r>
            <a:br>
              <a:rPr sz="4600"/>
            </a:b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Gran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nesday, December 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did we write the Total Instructional Alignment Gr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77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formation from the O.U.R Perkins TIA Grant Collaboration Mee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mber 6, 2009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837720" y="11426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included in the  Total Instructional Alignment Gr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cus Ski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6197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are 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5:01:24Z</dcterms:created>
  <dc:creator>jgreen</dc:creator>
  <dc:description/>
  <dc:language>en-US</dc:language>
  <cp:lastModifiedBy>jgreen</cp:lastModifiedBy>
  <dcterms:modified xsi:type="dcterms:W3CDTF">2009-12-09T13:14:55Z</dcterms:modified>
  <cp:revision>4</cp:revision>
  <dc:subject/>
  <dc:title>Total Instructional Alignment Grant</dc:title>
</cp:coreProperties>
</file>